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laser.wav" ContentType="audio/x-wav"/>
  <Override PartName="/ppt/media/image8.gif" ContentType="image/gif"/>
  <Override PartName="/ppt/media/image7.gif" ContentType="image/gif"/>
  <Override PartName="/ppt/media/image5.jpeg" ContentType="image/jpeg"/>
  <Override PartName="/ppt/media/image10.jpeg" ContentType="image/jpeg"/>
  <Override PartName="/ppt/media/chimes.wav" ContentType="audio/x-wav"/>
  <Override PartName="/ppt/media/image6.jpeg" ContentType="image/jpeg"/>
  <Override PartName="/ppt/media/image16.gif" ContentType="image/gif"/>
  <Override PartName="/ppt/media/image14.jpeg" ContentType="image/jpeg"/>
  <Override PartName="/ppt/media/image2.png" ContentType="image/png"/>
  <Override PartName="/ppt/media/image15.gif" ContentType="image/gif"/>
  <Override PartName="/ppt/media/image13.jpeg" ContentType="image/jpeg"/>
  <Override PartName="/ppt/media/camera.wav" ContentType="audio/x-wav"/>
  <Override PartName="/ppt/media/image12.jpeg" ContentType="image/jpeg"/>
  <Override PartName="/ppt/media/cashreg.wav" ContentType="audio/x-wav"/>
  <Override PartName="/ppt/media/projctor.wav" ContentType="audio/x-wav"/>
  <Override PartName="/ppt/media/image9.jpeg" ContentType="image/jpeg"/>
  <Override PartName="/ppt/media/image11.jpeg" ContentType="image/jpeg"/>
  <Override PartName="/ppt/media/image3.png" ContentType="image/png"/>
  <Override PartName="/ppt/media/image4.gif" ContentType="image/gif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9E1E-095D-48B2-9587-F2721D21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D780-B833-4760-998D-F32DAF8A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95F8-31D3-48D2-95C8-EF2C5264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5307-FAF3-40E4-A45B-0DB38E03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805F-CA27-4C93-A441-5AA1B5DF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114F-46FC-4A4A-98CB-4C7FCF66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A25B-9105-4CB8-9432-A1F02756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785C-FEAE-4062-A648-E5DCAE4E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B8BB-F8DC-4707-A0F0-69AD18FB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C519-CDDD-45B7-AABD-10ED4F60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8604-07E9-4E33-A625-701D8886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6C65-82E3-4155-B5F2-06BC4F65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A7A4-DEB1-491E-AD60-26F94CA0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E9F9-CD18-4138-A261-E279E3A2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73D4-4D44-4E47-914A-1690242E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E6F0-87DB-4B23-A950-F3A77077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AC76-A648-4C24-8379-479DF6F7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0653-7F35-4822-8C0B-BACE4046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F43C-9C87-4D54-B948-FDB71BC0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CCAF-9849-4AA5-8C2C-17BFBA5D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9BD-741B-49AD-8205-4282CD7A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4990-9BCE-4E82-BD82-29C717C2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45BC-B0FF-4D1F-A2CC-3F448B79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395F-73AE-40BB-BDF7-7FB2CDC8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F2CF-9F16-490A-83B1-E1C7946D164F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D4F0-2962-477C-8F15-7494F3051DE0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projcto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200362315734150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14400" y="533520"/>
            <a:ext cx="7467480" cy="19810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Unit  5   Advertis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2895480"/>
            <a:ext cx="4572000" cy="100836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Lesson   1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78960" y="1219320"/>
            <a:ext cx="598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at makes a good advertis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30320" y="1828800"/>
            <a:ext cx="32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make=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条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成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4240" y="2286000"/>
            <a:ext cx="8107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vid will make a good football play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ld tea makes a good drink in summ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3520" y="3581280"/>
            <a:ext cx="900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en translated, it meant“x puts living things 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y hair.(=When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it wa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ranslat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9960" y="5173560"/>
            <a:ext cx="7630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hy don’t you make an answer when spoken 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 won’t go to the party unless invi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533520"/>
            <a:ext cx="91440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start with= begin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219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g  Today’s class started with a ques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98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attract / draw one’s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31240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 puts life into dry hair---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干发生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114800"/>
            <a:ext cx="8153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 puts living things into dry hair ---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干发生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4920" y="0"/>
            <a:ext cx="8534160" cy="990720"/>
          </a:xfrm>
          <a:prstGeom prst="flowChartTerminator">
            <a:avLst/>
          </a:prstGeom>
          <a:solidFill>
            <a:srgbClr val="1be6e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PMingLiU"/>
                <a:ea typeface="PMingLiU"/>
              </a:rPr>
              <a:t>Practice 4  The Past Participle as Attribu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过去分词作定语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5040" y="853920"/>
            <a:ext cx="6046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Times New Roman"/>
              </a:rPr>
              <a:t>Complete these sentences in your own wa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2880" y="1158840"/>
            <a:ext cx="75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Example: We lived in </a:t>
            </a:r>
            <a:r>
              <a:rPr b="1" i="1" lang="en-US" sz="2600" spc="-1" strike="noStrike">
                <a:solidFill>
                  <a:srgbClr val="ff0066"/>
                </a:solidFill>
                <a:latin typeface="Times New Roman"/>
              </a:rPr>
              <a:t>the house built</a:t>
            </a: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 by my broth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7840" y="1595520"/>
            <a:ext cx="821196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1.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he telegram sent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by my sister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2.Her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companion, blamed for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___________, had not bee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driving careful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3. You can take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he new freeway opened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4.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Nine of ten housewives interviewed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about the produ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______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5.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hree guns, stolen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from _______________, were foun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in the hou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6.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ny medicine taken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without the advice of a doctor ca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__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7. We spent two hours discussing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he ads prepared b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8. He gave her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 beautiful gift designed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by 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8880" y="1600200"/>
            <a:ext cx="141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s urg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360" y="1981080"/>
            <a:ext cx="187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acci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880" y="2743200"/>
            <a:ext cx="1678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ast mon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5480" y="3505320"/>
            <a:ext cx="2261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ere satisfi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55040" y="3930480"/>
            <a:ext cx="264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police s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5149800"/>
            <a:ext cx="223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e dangerou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2160" y="5943600"/>
            <a:ext cx="148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s fi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4880" y="6292800"/>
            <a:ext cx="1207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imsel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781680" y="5410080"/>
            <a:ext cx="2362320" cy="14479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2057400"/>
            <a:ext cx="8915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streets         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s crowd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with shopp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supermarket                 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very wel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yp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top of the mountain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ere lin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with trees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ose bus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 factory visit   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s cover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with s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ll the problems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as agre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n exciting programme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ere injur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Very few people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as fix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s article        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re settled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80880"/>
            <a:ext cx="9144000" cy="1067040"/>
          </a:xfrm>
          <a:prstGeom prst="rect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Script MT Bold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PMingLiU"/>
                <a:ea typeface="PMingLiU"/>
              </a:rPr>
              <a:t>Practice  1   The Past Participle as Predic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Script MT Bold"/>
              </a:rPr>
              <a:t>（过去分词作表语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2362320"/>
            <a:ext cx="2209680" cy="83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124080" y="2286000"/>
            <a:ext cx="13716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3352680"/>
            <a:ext cx="53316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114800"/>
            <a:ext cx="1981080" cy="1143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4495680"/>
            <a:ext cx="1447920" cy="129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819520" y="4952520"/>
            <a:ext cx="1600200" cy="381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209680" y="2819160"/>
            <a:ext cx="2286000" cy="297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840" y="1438200"/>
            <a:ext cx="52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ake the sentences from the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962520" y="4495320"/>
            <a:ext cx="53316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loud"/>
          <p:cNvSpPr/>
          <p:nvPr/>
        </p:nvSpPr>
        <p:spPr>
          <a:xfrm>
            <a:off x="-228600" y="0"/>
            <a:ext cx="9601200" cy="1295280"/>
          </a:xfrm>
          <a:prstGeom prst="pie">
            <a:avLst/>
          </a:prstGeom>
          <a:solidFill>
            <a:srgbClr val="1be6eb"/>
          </a:solidFill>
          <a:ln w="936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MingLiU"/>
                <a:ea typeface="PMingLiU"/>
              </a:rPr>
              <a:t>Practice  2    The Past Participle as Object Complement   (</a:t>
            </a:r>
            <a:r>
              <a:rPr b="1" lang="zh-CN" sz="2800" spc="-1" strike="noStrike">
                <a:solidFill>
                  <a:srgbClr val="000000"/>
                </a:solidFill>
                <a:latin typeface="PMingLiU"/>
                <a:ea typeface="PMingLiU"/>
              </a:rPr>
              <a:t>过去分词作宾语补足语）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  <a:ea typeface="PMingLiU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-228600" y="13716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r>
              <a:rPr b="1" i="1" lang="en-US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We tried the idea out.</a:t>
            </a:r>
            <a:r>
              <a:rPr b="1" i="1" lang="en-US" sz="2800" spc="-1" strike="noStrike">
                <a:solidFill>
                  <a:srgbClr val="ff66cc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16765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147960" y="1778040"/>
            <a:ext cx="9643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have printed 6,000 advertis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We are going to change the text of the advertis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We shall fetch your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luggag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from the air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They have reviewed the whole program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He is going to film a new advertis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9360" y="2158920"/>
            <a:ext cx="69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have ha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6,000 advertisement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rint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380880" y="3048120"/>
            <a:ext cx="948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re going to hav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the text of the advertisement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hang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9625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hall hav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your luggage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etch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from the air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8560" y="4800600"/>
            <a:ext cx="75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y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have ha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the whole programm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eview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2720" y="6095880"/>
            <a:ext cx="75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s going to hav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a new advertisement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ilm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1371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e had the idea tried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93560" y="628560"/>
            <a:ext cx="88027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We must take some photographs of the microcomp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Mrs Baker does her hair every Friday after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The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libraria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putting up new shel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722600"/>
            <a:ext cx="960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e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ust have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ome photograph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of the microcomputer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taken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4237200"/>
            <a:ext cx="831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Mrs Baker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has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her hair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done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every Friday after work.</a:t>
            </a:r>
            <a:r>
              <a:rPr b="1" i="1" lang="zh-CN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6095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he librarian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s having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new shelve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ut up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 flipV="1">
            <a:off x="704880" y="0"/>
            <a:ext cx="6781680" cy="129528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Practice  3  The Past Participle as Adverbial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过去分词作状语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158840"/>
            <a:ext cx="9044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We were disturbed by the noise and had to finish th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eeting early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1360" y="2209680"/>
            <a:ext cx="762120" cy="1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30960" y="1955880"/>
            <a:ext cx="827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Disturbe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by the noise, we had to finish the meeting ear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405720" y="2438280"/>
            <a:ext cx="99478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he was devoted to her mother and looked after her for man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ea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She became tense when he was questioned about the murd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 She was admired for her photography and was persuaded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join the compan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-7560" y="3168720"/>
            <a:ext cx="921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Devote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to her mother, she had to look after her for many yea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1680" y="4191120"/>
            <a:ext cx="6956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uestione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about the murder, she became ten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715000"/>
            <a:ext cx="9118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dmire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for her photography, she was persuaded to join th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ompan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2280" y="833400"/>
            <a:ext cx="8763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We were excited by the sales figures and decided to go out and celeb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I was shocked at the waste of money and decid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ve the comp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He was persuaded by his friends to give up smoking and threw his remaining cigarettes a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1873080"/>
            <a:ext cx="811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xcited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by the sales figures, we decided to go out and celebr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8098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hocke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y the waste of money, I decided to leave the compan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0520" y="5759280"/>
            <a:ext cx="843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ersuaded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by his friends to give up smoking, he threw his remaining cigarettes a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838080"/>
            <a:ext cx="6172200" cy="1447920"/>
          </a:xfrm>
          <a:prstGeom prst="flowChartTerminator">
            <a:avLst/>
          </a:prstGeom>
          <a:solidFill>
            <a:srgbClr val="1be6e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Script MT Bold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8480" y="2971800"/>
            <a:ext cx="651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.Finish the workbook exerci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.Revise the whole less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343400" y="4876920"/>
            <a:ext cx="36576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47920" y="2711520"/>
            <a:ext cx="67816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88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ff"/>
                </a:solidFill>
                <a:latin typeface="华文行楷"/>
                <a:ea typeface="华文行楷"/>
              </a:rPr>
              <a:t>Thank you very much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971640" cy="892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133720" y="914400"/>
            <a:ext cx="971280" cy="892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5181480" y="5943600"/>
            <a:ext cx="960480" cy="5605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6400800" y="5334120"/>
            <a:ext cx="960480" cy="5601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7848720" y="5867280"/>
            <a:ext cx="96048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952880" y="4724280"/>
            <a:ext cx="3810240" cy="1981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600200" y="304920"/>
            <a:ext cx="5257800" cy="144756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General id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286000"/>
            <a:ext cx="799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aragraph1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4038480"/>
            <a:ext cx="792144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makes a good advertise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206369_20038273162826937" descr=""/>
          <p:cNvPicPr/>
          <p:nvPr/>
        </p:nvPicPr>
        <p:blipFill>
          <a:blip r:embed="rId3"/>
          <a:stretch/>
        </p:blipFill>
        <p:spPr>
          <a:xfrm>
            <a:off x="0" y="152280"/>
            <a:ext cx="960480" cy="960480"/>
          </a:xfrm>
          <a:prstGeom prst="rect">
            <a:avLst/>
          </a:prstGeom>
          <a:ln w="0">
            <a:noFill/>
          </a:ln>
        </p:spPr>
      </p:pic>
      <p:pic>
        <p:nvPicPr>
          <p:cNvPr id="98" name="20041285428431" descr=""/>
          <p:cNvPicPr/>
          <p:nvPr/>
        </p:nvPicPr>
        <p:blipFill>
          <a:blip r:embed="rId4"/>
          <a:stretch/>
        </p:blipFill>
        <p:spPr>
          <a:xfrm>
            <a:off x="7848720" y="228600"/>
            <a:ext cx="990360" cy="914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019920" y="2590920"/>
            <a:ext cx="114588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?</a:t>
            </a:r>
            <a:endParaRPr b="1" lang="en-US" sz="96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943600" y="5384880"/>
            <a:ext cx="3200400" cy="1473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33720" y="60948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82880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 ) 1.People read advertisements for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 ) 2.Advertisements often start with a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 order to get the correct ans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)  3. Humour is very important in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dvertis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)  4. It is possible for the reader 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iewer</a:t>
            </a:r>
            <a:r>
              <a:rPr b="1" i="1" lang="en-US" sz="32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member the advertisement but not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ame of  the produ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6720" y="17524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3623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35268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34340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838080" y="456840"/>
            <a:ext cx="6782040" cy="129528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True  or  Fal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206369_20038273162826937" descr=""/>
          <p:cNvPicPr/>
          <p:nvPr/>
        </p:nvPicPr>
        <p:blipFill>
          <a:blip r:embed="rId2"/>
          <a:stretch/>
        </p:blipFill>
        <p:spPr>
          <a:xfrm>
            <a:off x="0" y="380880"/>
            <a:ext cx="960480" cy="960480"/>
          </a:xfrm>
          <a:prstGeom prst="rect">
            <a:avLst/>
          </a:prstGeom>
          <a:ln w="0">
            <a:noFill/>
          </a:ln>
        </p:spPr>
      </p:pic>
      <p:pic>
        <p:nvPicPr>
          <p:cNvPr id="109" name="20041285428431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990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15238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533520"/>
            <a:ext cx="5257800" cy="144756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Times New Roman"/>
              </a:rPr>
              <a:t>General id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362320"/>
            <a:ext cx="89917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aragraph  2&amp;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8280" y="4952880"/>
            <a:ext cx="4876920" cy="1905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47920" y="3505320"/>
            <a:ext cx="7696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e danger in adverti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----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bad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translation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5029200"/>
            <a:ext cx="3352680" cy="1828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1066680" y="456840"/>
            <a:ext cx="6782040" cy="129528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True  or  Fal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90512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)1.Checking the translation is very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en you are selling your product in a fore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ar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)2.The two sentences “X puts life into yo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ry hair.” and “X puts living things into d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air.” have the same mea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)3. A British car company must chang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ame of the car in German marke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6360" y="19051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360" y="48006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6720" y="33526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38080" y="-53352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763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ep 2. Reading 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2120"/>
            <a:ext cx="9296280" cy="66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ccording to the text, most people read advertisements for: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knowledge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fun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killing time          D. both information and fun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2. Why do most advertisements begin with a question?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. Because nobody knows the answer.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B. Because a question can make an advertisement funny.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C. Because readers will be interested in finding out the answer.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D. Because a question will win more customers for a company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1752480"/>
            <a:ext cx="53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267080"/>
            <a:ext cx="38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380880"/>
            <a:ext cx="914400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What is very important in an advertisement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A question.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Information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Humor.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A stor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What is one of the dangers of a series of advertisements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A. Readers will be tired of reading too many text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B. Readers will lose patience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C. Readers will forget the name of the product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D. Readers will forget the advertisement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3800" y="1371600"/>
            <a:ext cx="8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7320" y="4754520"/>
            <a:ext cx="98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20" y="228600"/>
            <a:ext cx="8839080" cy="81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5. What may turn a good advertisement into a bad one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A question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A story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Bad translation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The expensive price of the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6 .What would happen if the advertisement has no effect on sales after it is tried o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Researchers interview possible custome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The reasons for the failure must be found out.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The advertisement is designed again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All of the above would hap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690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019920"/>
            <a:ext cx="533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315200" y="5257800"/>
            <a:ext cx="1828800" cy="1600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2133720" y="228600"/>
            <a:ext cx="4800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Questions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"/>
          <p:cNvSpPr/>
          <p:nvPr/>
        </p:nvSpPr>
        <p:spPr>
          <a:xfrm>
            <a:off x="299160" y="1219320"/>
            <a:ext cx="706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 do people read advertise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9720" y="1752480"/>
            <a:ext cx="827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People read advertisements partly fo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and partly because they are interes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3581280"/>
            <a:ext cx="817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e company wanted to say “X puts life into d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hair”.But when translated it meant “X puts liv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ings into dry hai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54864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e British name of the car meant “animal was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in Germ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666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What mistakes was made in the translation   of the ad for hair cre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876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What mistake was made in the car 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8T13:32:59Z</dcterms:created>
  <dc:creator>史文林</dc:creator>
  <dc:description/>
  <dc:language>en-US</dc:language>
  <cp:lastModifiedBy>w</cp:lastModifiedBy>
  <dcterms:modified xsi:type="dcterms:W3CDTF">2004-08-23T15:43:55Z</dcterms:modified>
  <cp:revision>84</cp:revision>
  <dc:subject/>
  <dc:title>PowerPoint 演示文稿</dc:title>
</cp:coreProperties>
</file>